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00300"/>
        <c:axId val="4218683"/>
      </c:barChart>
      <c:catAx>
        <c:axId val="84400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8683"/>
        <c:crosses val="autoZero"/>
        <c:auto val="1"/>
        <c:lblAlgn val="ctr"/>
        <c:lblOffset val="100"/>
        <c:noMultiLvlLbl val="0"/>
      </c:catAx>
      <c:valAx>
        <c:axId val="4218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00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00E-0195-466E-B853-0DC08C43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CFE-3E5A-4377-BE07-C1E7C7E3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415-3B01-4A4E-A0EA-9EF251B2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121-0D85-4A8D-AD59-E4EDC5CE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C57-7993-4E05-9555-FFFC46A6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192-677E-4073-A38E-BA6E8B84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3BA-FA9F-47D0-9D0E-79EFF426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E00-117E-4A57-8B09-B769808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601-3272-4658-A8CB-F4EA7461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321-B866-44C7-88D9-78E6EF9C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B3F-79A4-4D23-ADBD-0AC4DA9A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6DD-03ED-4D27-B0EE-06F6D373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0F837-50CD-4079-AEAF-8363EB105B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